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2C01-04AE-4BF5-B3C9-C22D5D30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7054-5E5D-4869-B504-FD732A1F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CDF7-CAD9-4FFD-A438-3A42DDB3D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0B58-2510-4A21-A518-E90D3F395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A477-BA71-4E67-AF28-96B14F18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A070-8DC7-41DE-8127-ED3B75B1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4D26-F99D-4C3C-95FA-DFA51D65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08BD-6B38-4DF7-A949-56269D81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7CFB-7194-4D8D-ADF4-40315C64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7DBF-30D1-4DCB-ADBC-A5B9B316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FE3D-CBE3-476A-B5F6-71BBF1C2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5C75-78F3-4DF4-A1BE-F7B08D41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4EDB-36C7-4141-82F6-A57A0F75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A82A-C96D-47AE-9E7D-46A4341A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6BA0-468E-43D8-8F81-4EF5AE90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3ADE-63E7-4D49-A713-F2AE2E177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B877-9285-4CDE-A228-0D7A9D1E5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A9C5-AE02-4AE4-A47D-4C1F7072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142E-F573-4780-A0AD-8E8504B0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D591-4215-4656-A09E-87970418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CF80-DDE8-43A1-9F58-D23AE6ED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E5DA-6582-4A0D-8406-7A5D8780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70B3-D38C-4709-A463-F8D88CD9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3333-43FF-48C7-B6BD-89917C29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F6A6-6C29-477D-AFF6-3F470136AB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95480" indent="-2214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95480" indent="-2214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95480" indent="-2214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0C29-122E-457B-BD5B-E99BC28CE37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The vital presence of Hispanic groups in the U.S.A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Puerto-Rica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6099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econd biggest group of Hispanics in the U.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hold U.S. citizenshi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live in New Yor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mous Puerto-Ricans: Ricky Martin, Marc Anthony, Soraida Martinez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6678720" y="1828800"/>
            <a:ext cx="1860480" cy="23623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6424560" y="441972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icky Mart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7086600" y="5029200"/>
            <a:ext cx="106668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Cuban-America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371240"/>
            <a:ext cx="6022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hird biggest group of Hispanics in the U.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of them reside in Florida, New Jersey and Californ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famous Cuban-Americans: Daisy Fuentes, Andy Garcia, Cameron Diaz, Gloria Estef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6586560" y="1523880"/>
            <a:ext cx="1906560" cy="243864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6879960" y="41148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mer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063200" y="4572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a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7068960" y="5105520"/>
            <a:ext cx="108432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Central-America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2276640"/>
            <a:ext cx="8540640" cy="38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ourth biggest group of Hispanics in the U.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alvadorians are the biggest group among them. Most of them reside in Washington D. C. and Los Ange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Other Hispanic group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 big groups: Spaniards, Peruvians, Dominicans, Bolivians, Venezuelans, Paraguayans, Colombia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Hispanic population in the U.S. surpasses 30 millions and includes a big variety of cultu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efore the year 150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540640" cy="38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any Indian tribes inhabited the current U.S. territory before the Spaniards came to America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n 1527 Alvarez Nuñez Cabeza de Vaca, a Spanish conqueror, started exploring the South and Southeast of today’s U.S. territorie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80010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etween 1600 and 180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3657240"/>
            <a:ext cx="7927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paniards colonized what today is New Mexic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anish missioners constructed Catholic missions in Texas and Californi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1905120" y="1523880"/>
            <a:ext cx="5485680" cy="1523880"/>
            <a:chOff x="1905120" y="1523880"/>
            <a:chExt cx="5485680" cy="1523880"/>
          </a:xfrm>
        </p:grpSpPr>
        <p:pic>
          <p:nvPicPr>
            <p:cNvPr id="391" name="" descr=""/>
            <p:cNvPicPr/>
            <p:nvPr/>
          </p:nvPicPr>
          <p:blipFill>
            <a:blip r:embed="rId1"/>
            <a:stretch/>
          </p:blipFill>
          <p:spPr>
            <a:xfrm>
              <a:off x="5796360" y="1523880"/>
              <a:ext cx="1594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" descr=""/>
            <p:cNvPicPr/>
            <p:nvPr/>
          </p:nvPicPr>
          <p:blipFill>
            <a:blip r:embed="rId2"/>
            <a:stretch/>
          </p:blipFill>
          <p:spPr>
            <a:xfrm>
              <a:off x="3453120" y="1523880"/>
              <a:ext cx="23432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1905120" y="1523880"/>
              <a:ext cx="1542600" cy="1523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Wars with Mexico (1846-1848) 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and  Spain (1898)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4120" y="1828440"/>
            <a:ext cx="3504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 1848 the U.S. won the war with Mexico and took possession of California, Arizona, New Mexico and other stat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 1898 the U.S. won the war with Spain and Spain lost Cuba and Puerto Ric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4419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irst half of the 20</a:t>
            </a:r>
            <a:r>
              <a:rPr b="0" lang="en-US" sz="40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Centu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2347920"/>
            <a:ext cx="8540640" cy="37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900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oraker act incorporates Puerto Rico to the U.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910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Mexican revolution increases immigrations to the U.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917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.S. citizenship is granted to all Puerto Rica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cond half of the 20</a:t>
            </a:r>
            <a:r>
              <a:rPr b="0" lang="en-US" sz="40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Centu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2076120"/>
            <a:ext cx="854064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959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uban revolution took place. A big Cuban exodus to the U.S. star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965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sar Chavez founded the United Farm Workers Organization in Californ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979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g immigrations from Central and South Amer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994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 government of California negates education and medical insurance to illegal alie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vital presence of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ispanic groups in the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U.S.A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24000" y="3141360"/>
            <a:ext cx="854064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art II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Pres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ispanics: The biggest minorit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Hispanic groups in almost every city of the U.S.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four main groups of Hispanic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ir contributions to the economy and culture have become importa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Mexican-Americans or Chicano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640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ey form the biggest group of Hispanic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ey are found mainly in California, Nuevo Mexico, Arizona, Texas and Colorado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ome famous Chicanos: Edward James Olmos, Carlos Santana, Sandra Cisneros, Cesar Chavez, Antonio Villaraigosa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6858000" y="1676520"/>
            <a:ext cx="1727280" cy="220968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7010280" y="40384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yor 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781680" y="4419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os Ange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7162920" y="5095800"/>
            <a:ext cx="129528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7:27:23Z</dcterms:created>
  <dc:creator>RAMON MEDINA</dc:creator>
  <dc:description/>
  <dc:language>en-US</dc:language>
  <cp:lastModifiedBy>Daly Dominguez</cp:lastModifiedBy>
  <dcterms:modified xsi:type="dcterms:W3CDTF">2009-06-01T07:47:27Z</dcterms:modified>
  <cp:revision>15</cp:revision>
  <dc:subject/>
  <dc:title>The vital presence of Hispanic groups in the U.S.A.</dc:title>
</cp:coreProperties>
</file>